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B39-A9E1-4A45-90C8-1AE022F9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A20-377C-4638-A4A2-EAE913A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9D4-5A13-4705-876B-6698D90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6D8-445E-46FA-9071-60992966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4D4-440B-4F98-BE4A-0D913BBC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5DB-F6B0-4BEC-8084-4B35B2E4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C23-92AD-46D5-A7FA-4DD7FA3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BEB-0374-4D87-88F2-2C8BDEF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931-82DF-4465-9EB7-EA8FF78E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F40-D943-42A9-BA8A-09FEA5E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C80-3301-43CD-898E-385392F4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74F-65F9-4587-8375-142AD1C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2392-F32F-4E97-9F7D-3258C605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Kill a Mockingbi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Har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y is told by Scout, a 10-year-old 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 Lee is actually a woman; Scout represents the author as a little girl although the story is not  strictly autobiograp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the No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ing is all important –be aware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” and “when” as you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of View – the novel is shaped by the voice of a young girl who sees the story from a position of naïve accep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ness vs. Ignorance (Evil)” and Innocence vs. Knowledge of e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a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following image and think about the following th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ee in the photo-Just the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your personal feelings about the photo. “I think of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conclude about the pho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d to write a story about the photo, what would your opening lin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TTING OF THE NO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2209320"/>
            <a:ext cx="5639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thern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judice and legal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0’s - Great Depression began when the stock market crashed in October, 1929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es failed, factories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ople were out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n people with money suffered because nothing was being produced for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people lost their homes, were forced to “live off the la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ial prejudice was alive &amp; well. Although slavery had ended in 1864,        old ideas were slow to chang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cial separation (segregation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017720"/>
            <a:ext cx="7772400" cy="5233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914400"/>
            <a:ext cx="3687480" cy="525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7620120" cy="5397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1441440"/>
            <a:ext cx="7385040" cy="479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080" y="1295280"/>
            <a:ext cx="721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ite tras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or, uneducated white people who lived on “relief 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west social class, even below the poor bl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judiced against black peopl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lt the need to “put down” blacks in order to elevate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gal Issues of the 1920’s and ‘30s which impact the sto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 given the vote in 1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ries were  MALE and W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trial” did not include acceptance of a black man’s word against a white ma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ttsboro Boy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3997" t="4450" r="3997" b="4265"/>
          <a:stretch/>
        </p:blipFill>
        <p:spPr>
          <a:xfrm>
            <a:off x="4800600" y="228600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judice in the no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ic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/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cus Finch -  an attorney whose wife has  died, leaving him to raise their two childr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Jem –  10-year-old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cout – (Jean Louise), 6-year-old 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Robinson – a black man accused of raping  white girl; he is defended at trial by Atti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1:39:57Z</dcterms:created>
  <dc:creator>Inst</dc:creator>
  <dc:description/>
  <dc:language>en-US</dc:language>
  <cp:lastModifiedBy>VMS</cp:lastModifiedBy>
  <dcterms:modified xsi:type="dcterms:W3CDTF">2009-09-03T17:34:27Z</dcterms:modified>
  <cp:revision>16</cp:revision>
  <dc:subject/>
  <dc:title>To Kill a Mockingbird</dc:title>
</cp:coreProperties>
</file>